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4BA16-EFCD-4F94-9D42-06072A553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8685E-AF95-4E06-A572-9F1AFF6C4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B5F72-BC06-4DE0-BEFE-4F3E46B88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C88CA-D0EC-44C1-A7BB-DC0F6DCA5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4A1DE-2EB7-49EE-9614-B19F3EB5B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95882-633C-4FFE-9B56-93D2368B0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82172-AF24-48EA-8135-8D78765C7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0FA5C-B1ED-4622-905B-BBDEAB438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AE9AE-8A10-4FE2-B76F-729204819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84565-CB34-4B2D-B298-1F27809CC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EEB1D-834B-4E00-9F3A-37EA1BA36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1A57A-DF8F-42EE-AF82-D5CE5FB80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E309A-025B-4F81-9472-0F037861D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ADA7D-3B66-4FDD-870D-8938EA01F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2D336-B935-4543-9616-304E03E35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9F8FC-3CBE-45B9-9942-4B83D631E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C8358-997E-474F-BC0B-16B41BFF6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08966-F644-441C-A828-BCF5CA6AF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407A5-2C51-479B-81DB-C55FD89FE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8BA7E-422F-43D3-80F6-7C7165BCD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134B6-DABB-4EB4-B0B7-280B9AA7D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76C62-2B57-4664-9ED7-C6A21AFEE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EBA66-F7D5-4371-906D-906C801C3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A2271-2809-4C49-9224-1628CB347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C0554-9061-4FCE-90D7-09077CB9378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4AAA1-8EA6-4550-9405-EF8F475DF16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74280" y="31237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Komunikace sluchově postižený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stová abeced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2666520"/>
            <a:ext cx="77724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Přednosti a výhody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Vizuálně-motorická existe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Snadno naučitelná a reprodukovatelná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Není vázána na další pomůck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Přesně vizualizuje mluvený jazy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stová abeced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evýhody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lova jsou hláskován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Je pomalejší než mluvení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acný rozvoj a posléze záměrné utlumování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dvádí dítě od odezírání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stová abeced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Druhy prstových abeced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Jednoruční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Dvouruční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Smíšená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Do dlaně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Lormova abeced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stová abeced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ejčastější použití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eznámá slov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ázvy měst a obcí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eografické názv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Jména a příjmení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lova, která nemají zna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ěkteré nové znak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dezírání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Odezírání = vizuální percep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Přijímání informací zrakem a chápání jejich obsahu na základě pohybů mluvidel, mimiky, gestikulace, celkového postoje těla a kontextu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Prioritní místo v interkulturní komunikac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dezírání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Kinémy = faciální obrazy hláse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11 kinémů pro všechny české hlásk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4 kinémy pro samohlás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7 kinémů pro souhlás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Jiný vizuální obraz izolovaně vyslovovaných hlásek a hlásek spojovaných do celých slo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dezírání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nější podmínky odezírání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nzita osvětlení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měr osvětlení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onverzační vzdáleno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nzita potřeby dorozumět 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řiměřená mluvní technik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dezírání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nitřní podmínky odezírání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sažená úroveň vývoje řeč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moce a psychický sta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v zraku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chopnost soustředit 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Úroveň schopnosti odezír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Zkušenosti a úroveň sociálních vztahů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dezírání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440" y="297144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upně odezírání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imární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xikální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grální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Komunikační systémy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luchově postižený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2494080"/>
            <a:ext cx="7772400" cy="18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Znakový jazy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stová abeced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dezírání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2640" y="3805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Znakový jazyk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izuálně-motorický komunikační systé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řirozený a plnohodnotný jazykový systé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ložky znakového jazyka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erbálně nevokální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everbálně nevokální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everbálně vokální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nuální a nemanuální fakt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Znakový jazyk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Druhy znakových jazyků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„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Znaková řeč“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Národní znakový jazy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Znakovaný národní jazy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Gestun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Dětský znakový jazy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Znakový jazyk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2247840"/>
            <a:ext cx="7772400" cy="415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lastnosti znakového jazyka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multánno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lastní znaková zásob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lastní gramatik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korpora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lasifikát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imetická deskrip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Znakový jazyk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2590560"/>
            <a:ext cx="7772400" cy="24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uhy znaků ve znakovém jazyc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kazovací (deiktické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apodobovací (ikonické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mbolické (arbitrární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Znakový jazyk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Variantnost znakového jazyka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Komunikační situace (diglosi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Regionální odchylk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Sociální odchylk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Odchylky dle pohlaví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Generační rozdí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Znakový jazyk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lumočení znakového jazyka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multánní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onsekutivní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áze tlumočení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cep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nsla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roduk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stová abeced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= daktylní abeceda, daktylotika, dakty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Prstová abeceda = vizuálně-motorická komunikační forma (systém), při které se užívá různých poloh a postavení prstů k vyjádření písm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Integrální součást ČZJ a ZČ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6T15:19:42Z</dcterms:created>
  <dc:creator>Jiří Langer</dc:creator>
  <dc:description/>
  <dc:language>en-US</dc:language>
  <cp:lastModifiedBy>Langer</cp:lastModifiedBy>
  <dcterms:modified xsi:type="dcterms:W3CDTF">2004-10-07T19:59:01Z</dcterms:modified>
  <cp:revision>20</cp:revision>
  <dc:subject/>
  <dc:title>Komunikace sluchově postižených</dc:title>
</cp:coreProperties>
</file>