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ACFD-BE2A-47BB-B9E0-6756D631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9F29-FBAD-4399-96DB-AA3E5EED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3207-5043-4197-BB67-1300CCBF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BA41-7AA8-428A-BD1D-00F56B03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67AD-BDCB-426C-A791-B4549A5B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FA20-AC76-4028-8226-8A819D38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DF67-1E07-401B-A785-B21C3463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0D0F-14C4-41C4-9C90-BDE96C7E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CA3D-CCE1-41C2-A851-54ABF54C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FF23-E05D-4B57-9AF5-CE3FF618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E5E2-B6FA-4D1A-B555-0E35F330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CBD2-A098-435D-A72E-D9BB2355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ACB2-625D-4785-B950-0F9827E3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F184-5888-499A-A61A-7BF0C278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F67E-163D-4ED4-A878-3EBDCC46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C76A-9CED-4CF0-814D-68A65218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19EC-21C8-4B71-9AA9-794172B3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353-34F3-4F55-A1EA-3A00D236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4684-A724-4F96-85E8-01AFDC8E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D045-CE05-489E-879F-9A4AD86B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2F09-AAE0-432D-A3FC-A5C71D41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8F35-7B27-46CD-8378-D26BBD34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59D9-7B05-4B3F-A795-437A4C06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6B32-EFF2-41A7-A895-612A310A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D8EF-FD31-49E3-AE62-40D4B6DDF63D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9A8D-5A37-4F89-87C0-0A9D91CCAE77}" type="slidenum">
              <a:rPr b="0" lang="cs-CZ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4280" y="2286000"/>
            <a:ext cx="77929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Sluchové vnímání a jeho fyziologie, patologie sluchového analyzátoru, klasifikace sluchových vad, vlastnosti zvuku</a:t>
            </a: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Příčiny vzniku poruch sluch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erinatální příčin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omplikovaný por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edonošen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sfyx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rodní váha pod 1,5 k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Příčiny vzniku poruch sluch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stnatální příčin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říušn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razy hlav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áněty C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áněty středního uch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Akusti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0" y="2742840"/>
            <a:ext cx="4191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Člověkem slyšitelná frekvence zvu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16 – 20 000 H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vlna" descr=""/>
          <p:cNvPicPr/>
          <p:nvPr/>
        </p:nvPicPr>
        <p:blipFill>
          <a:blip r:embed="rId1"/>
          <a:stretch/>
        </p:blipFill>
        <p:spPr>
          <a:xfrm>
            <a:off x="866880" y="2057400"/>
            <a:ext cx="3705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Akusti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2590920"/>
            <a:ext cx="7772400" cy="31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lasitost a intenzita zvu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luchový práh (dle frekvence zvuku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matový práh (asi 120 d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áh bolesti (130 až 140 d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luchové p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Akusti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luchová adapt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erifer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entrál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erstimulač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ststimulač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nava sluchu, zalehnut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Tinni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innitus = tzv. ušní šel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Objektiv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ubjektiv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76212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Anatomie sluchového analyzátor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ucho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391520" cy="4195800"/>
          </a:xfrm>
          <a:prstGeom prst="rect">
            <a:avLst/>
          </a:prstGeom>
          <a:ln w="0">
            <a:noFill/>
          </a:ln>
        </p:spPr>
      </p:pic>
      <p:pic>
        <p:nvPicPr>
          <p:cNvPr id="101" name="kustky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81024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76212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Anatomie sluchového analyzátor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kochlea1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4671720" cy="3930480"/>
          </a:xfrm>
          <a:prstGeom prst="rect">
            <a:avLst/>
          </a:prstGeom>
          <a:ln w="0">
            <a:noFill/>
          </a:ln>
        </p:spPr>
      </p:pic>
      <p:pic>
        <p:nvPicPr>
          <p:cNvPr id="104" name="kochlea2" descr=""/>
          <p:cNvPicPr/>
          <p:nvPr/>
        </p:nvPicPr>
        <p:blipFill>
          <a:blip r:embed="rId2"/>
          <a:stretch/>
        </p:blipFill>
        <p:spPr>
          <a:xfrm>
            <a:off x="5638680" y="2590920"/>
            <a:ext cx="2814840" cy="3047760"/>
          </a:xfrm>
          <a:prstGeom prst="rect">
            <a:avLst/>
          </a:prstGeom>
          <a:ln w="0">
            <a:noFill/>
          </a:ln>
        </p:spPr>
      </p:pic>
      <p:pic>
        <p:nvPicPr>
          <p:cNvPr id="105" name="corti" descr=""/>
          <p:cNvPicPr/>
          <p:nvPr/>
        </p:nvPicPr>
        <p:blipFill>
          <a:blip r:embed="rId3"/>
          <a:stretch/>
        </p:blipFill>
        <p:spPr>
          <a:xfrm>
            <a:off x="2476440" y="2514600"/>
            <a:ext cx="419112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Klasifikace sluchových v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dle doby vzni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1) vrozen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Dědičn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ískané prenatáln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2) získan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renatáln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erinatáln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stnatáln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Klasifikace sluchových v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stnatálně získané vady sluch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elingvál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stlingvál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Klasifikace sluchových v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dle lokaliz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řevod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ercepč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chleár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uprakochleár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míšen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Klasifikace sluchových v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dle stupně postižení (dle Hložk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ormální sluch (ztráta 0 – 25 d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Lehká nedoslýchavost (26 – 40 d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třední nedoslýchavost (41 – 55 d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tředně těžká nedoslých. (56 – 70 d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ěžká nedoslýchavost (71 – 90 d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luchota (více než 90 d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Příčiny vzniku poruch sluch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25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yndrom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sherů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ganů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yndrom CHAR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Příčiny vzniku poruch sluch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enatální příčin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ntoxik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irové infek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ubeo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H fak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yfi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12:43:09Z</dcterms:created>
  <dc:creator>Jiří Langer</dc:creator>
  <dc:description/>
  <dc:language>en-US</dc:language>
  <cp:lastModifiedBy>Jiří Langer</cp:lastModifiedBy>
  <dcterms:modified xsi:type="dcterms:W3CDTF">2004-10-07T08:57:14Z</dcterms:modified>
  <cp:revision>8</cp:revision>
  <dc:subject/>
  <dc:title>Sluchové vnímání a jeho fyziologie, patologie sluchového analyzátoru, klasifikace sluchových vad, vlastnosti zvuku </dc:title>
</cp:coreProperties>
</file>