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A9B-79DF-4511-9584-D2A8FA1C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C40-3B79-4552-AD28-A15582F3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8C9-9A1C-4C06-BB2A-1FDAD4DF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301-084F-41DF-A1EB-D8652271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C529-8D49-418D-8AAE-D6222C1F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5E98-38F9-4D65-8956-17393FE7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ACA7-BEC0-4ACC-9D95-BD03EDC4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2AC1-2EAF-4D18-9A1E-1E767902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391F-90EA-4983-876F-A62AF0F6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3E72-06D1-4896-8A2A-8B4DC041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46B7-5C80-49BE-AC00-C806D0AF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18E9-FD39-4574-AB80-FD73BCD0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64D0-F65C-4B19-B4C6-FE38B568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7EA6-A2D7-4EEE-ACE9-27305B3C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C272-B14A-4D47-B89B-9FFED3FB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53BA-1C8C-4C6C-8066-62505A00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A307-22E1-4AEB-81B8-4E561B00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086-F354-4163-BB55-7E90C05F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8CD-59C1-41C5-981A-6D1DB858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356-4A9A-49F8-8F1A-E69B8ECD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621-83DD-4B78-AF1F-DBBAD398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102-D15C-49FC-A3A4-C51531BE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7D8-625E-422B-967A-052C8138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FAD-1C65-4BBF-9F4A-988C7068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FC4C-7361-4B6C-AF78-96EF8D1F89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CE87-AFC6-4E6A-A46D-7152925110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280" y="3200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chnické pomůcky pro sluchově postižen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uchad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dle tvaru (konstrukčního provedení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rabičková (kapesn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Brý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ávěsn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Boltc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vukovod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aná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uchad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le způsobu zpracování signál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ál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chnické pomůc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lektivní zesilovací aparatu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jít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NFRA-ROT pojít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M pojít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ndikátory hlás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Elektrotaktilní a vibrotaktilní pomůc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axy, mobilní telefony a počítač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mpenzační pomůc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ětelné a vibrační budí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ětelné zvon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lizátory zvonění telefon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silovače zvu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evřené a skryté titul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Kochleární implantá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rčeny těžce sluchově postižený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incip založen na elektrické stimulaci zachovaných vláken sluchového nervu (imituje funkci poškozené kochle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vukový signál transformován na sled elektrických impuls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ráždění sluchového nervu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luchové vjem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Kochleární implantá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lmi přísná kritéria pro výběr kandidátů na implanta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áročná pooperační péč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edukace a trénink sluch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opedická péč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ideálním případě je možné i telefonov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20:34:53Z</dcterms:created>
  <dc:creator>Langer</dc:creator>
  <dc:description/>
  <dc:language>en-US</dc:language>
  <cp:lastModifiedBy>Langer</cp:lastModifiedBy>
  <dcterms:modified xsi:type="dcterms:W3CDTF">2004-10-07T21:14:19Z</dcterms:modified>
  <cp:revision>4</cp:revision>
  <dc:subject/>
  <dc:title>Technické pomůcky pro sluchově postižené</dc:title>
</cp:coreProperties>
</file>