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80E-BAF2-4243-8F41-0F361E12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D55-297C-4C82-BB22-2CBA2BE1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8C9-4971-4559-ABE0-8E2AF5FA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E5D-DF6A-41B6-919D-5B4E25C0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6772-EA2F-44DC-84A9-E7393A81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A7B4-6585-431B-A6E2-5B2A27A3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28E5-9125-400E-B8A2-AA5A130E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9168-E6D9-44AC-8CA4-8A13FE82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40FF-6C8E-449C-ACBD-C4912E4E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127F-AF19-4ACE-A5BD-2122E17E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7A49-D941-4FE3-B43F-B4C772F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939-BE7C-4200-9735-9B84B800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578E-DEBE-43B1-8F04-F3510760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831D-8448-4A32-99AF-EA583E91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C3C0-FE63-4D59-918B-B23EC82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597F-0A17-4253-B344-D5C3F65D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8D6E-A5E9-44E7-B465-780E4CEB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F9D-7C16-40FA-BA69-C0DF5C7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4E7-FE1A-45EC-B59E-419F5341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25E-A985-49E3-AE1E-7845B986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B1A-FC66-4440-8AA4-E26ED9E6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39A-70EE-41A7-9426-C5823A3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E21-6052-4B6E-883E-69FDF1B2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F6D-4AD5-462A-939E-8769467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16A2-AEBD-4FAF-90BD-9466CC5E89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4D68-935A-4B51-8A3B-3B03270224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733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urdopedie jako vědní obor, vymezení pojmu, terminologie, surdopedické zás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urdopedie jako vědní ob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77240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 roku 1983 součást logoped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rdopedie = speciálně pedagogická vědní disciplína, která se zabývá péčí o sluchově postižené, jejich výchovou a vzděláván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ztah surdopedie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 ostatním vědá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ální pedagog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ecná pedagogika a psych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ínské ob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zykově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ké ob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olog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772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uchové postiž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uch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uchoněm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slyšící x neslyší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urdopedické zás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obecné didaktické zásady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čas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tiv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díl v přístupu podle stupně postiž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ktování vývojových zvláštností sluchově postižený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iměřená náročnost a důsled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urdopedické zás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ké a intenzívní uplatňování názor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č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té procvičování a opakov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členění znalostí do aktivní slovní záso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časné rozvíjení návyku čtení a písemného proje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08:27:36Z</dcterms:created>
  <dc:creator>Langer</dc:creator>
  <dc:description/>
  <dc:language>en-US</dc:language>
  <cp:lastModifiedBy>Jiří Langer</cp:lastModifiedBy>
  <dcterms:modified xsi:type="dcterms:W3CDTF">2004-10-05T05:49:11Z</dcterms:modified>
  <cp:revision>3</cp:revision>
  <dc:subject/>
  <dc:title>Surdopedie jako vědní obor</dc:title>
</cp:coreProperties>
</file>