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5E1-3F35-4639-9B11-EC416E28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DAD-A02C-422C-B5F5-B0E0B8D1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446-7BE1-4D3B-8067-DD0104F9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85C-DD96-4748-BA8E-FBB8E816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282D-ECC2-4D57-9A1F-B19B6840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8545-39A0-4C26-828A-5F837B4B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C496-187F-4840-8601-553FC484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FC4D-ADAD-4AA5-B86D-E472D66C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EDD5-6848-4818-8DF2-174FAD4E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6D75-7E41-47A9-A88F-F19A058E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3CDC-8C97-49A8-838C-1B89000A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4AA-25E0-4487-8A8D-57D36E22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F710-B9CC-401F-BAA2-3C182C2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B28C-26EA-4528-AA35-DC0B17EE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917F-1CA8-4291-A729-2E7DDC58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7FC0-A8C8-44BC-AAB7-241D8F87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97D2-FD2C-4D49-8DD0-296083D8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754-D174-4DE0-B4D6-4A5831C6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8C3-F7DD-4947-8A63-F8F8B53D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970-C49E-40DA-9072-F9F15F4B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0A8-DE51-4B40-AAC7-CAB648CC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5A0-0A3A-4038-9CEE-58A2EDBD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7E6-A0B5-41EB-B2F3-7F2520B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7D5-AF45-4CA2-A43C-39E27931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9ADD-892F-4D56-94EF-FC2AB4B8F8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3916-52DA-40A8-BD6A-AD63F513DE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péče o sluchově postižen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ve svět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. stol. n.l. – lékař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Archigen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lem 1200 – církevní právo uzavřít sňatek posunkovou řeč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6. stol. – období preceptorátu (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Pedro Ponce de Leon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 Juan Pablo Bonet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7. stol. –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Manuel Ramiréz de Carrión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ohn Bulwer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ohn Wal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ve svět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8. stol. –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ohann Conrad Amman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ohann Ludwig Ferdinand Arnold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acob Rodriguez Pereira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Charles Michel (abbé) de ľ Ep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akládání prvních ústavů a šk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769/70 – Paří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779 – Víde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786 – Pra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ve svět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znik různých vzdělávacích met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měr francouzský (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abbé de ľ Epé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měr německý (</a:t>
            </a: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Samuel Heinick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880 – Milánský kong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894 – Gallaudetova Univerz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 v Českých zemí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786 – Pražský soukromý ústav pro hluchoněm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832 – Moravskoslezský ústav pro hluchoněmé v Brn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894 – Ivančice, Lipník nad Bečv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07 – Ústav pro německé děti v Olomou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 v Českých zemí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l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868 – Podpůrný spolek hluchoněmý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0 – Svaz rodičů dětí hluchoněmý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48 – Školský zákon – jednotná školská soust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53 – 2. školský zákon – osmiletá povinná školní docházka + 1 u 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 v Českých zemí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60 – Devítiletá školní docházka +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60 – 1. gymnázium pro 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60 – Rozdělení škol podle stupně postiž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0 – Zrušeno rozdělení škol podle stupně postiž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1 – Zakládání SPC pro 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08:57:49Z</dcterms:created>
  <dc:creator>Langer</dc:creator>
  <dc:description/>
  <dc:language>en-US</dc:language>
  <cp:lastModifiedBy>Jiří Langer</cp:lastModifiedBy>
  <dcterms:modified xsi:type="dcterms:W3CDTF">2004-10-05T05:47:35Z</dcterms:modified>
  <cp:revision>6</cp:revision>
  <dc:subject/>
  <dc:title>Historie péče o sluchově postižené</dc:title>
</cp:coreProperties>
</file>