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CBA9-CE45-4A28-BB29-18EB5406A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DB4A-2675-4F39-8436-251223D7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AB69-6D84-4EA4-AA24-98C749F1C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85F2-6E6D-4C5F-A158-AD6B8FD69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C162-B83B-44F8-8BEE-6291F3022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16C75-EDA1-41F9-BB1F-EC6332D2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FA27-1D73-47B5-AA03-8A8C59DF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E327-345D-41A8-AD3F-8C307360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0743-7DAB-4C33-963F-99334EB2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B417-5AC6-4FCF-B663-FB12EBE2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923F-C9C0-4BAE-BA3C-D6239C93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AAB1-45E2-4D84-BFC6-692E1CD4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23B8-05FC-4ADD-B177-EE452C82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8A38-0150-4D18-9A85-E2860F56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409F-12FD-4E26-93CB-E2AA9DA3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6FE5-BD3F-445D-810A-5FC2769C1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1B6E-0066-461B-97AC-715A57F5F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EBB7-8081-4C04-9A81-046A7D31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C706-6C04-4D55-9B1E-A6172BD5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A42C-F04C-4A8D-A2F2-87DB8486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6FC1-046E-46D5-A607-5FB12DDB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400E-558C-4F5C-87BD-723C464F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B771-95E0-4B08-A40E-BC2AEBAD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11D4-0A5F-46D4-9784-CF2EE7FF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0415-D1C7-4AAB-90BB-8183CA8DC8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BE28-0427-475F-9D7D-8136A7AF4C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4280" y="2895120"/>
            <a:ext cx="7792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Diagnostika a metody vyšet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ř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ení sluchu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lasické sluchové zkou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2437920"/>
            <a:ext cx="777240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spcBef>
                <a:spcPts val="7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yšetření hlasitou řečí (Vox magn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65200" indent="-565200">
              <a:spcBef>
                <a:spcPts val="7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yšetření šepotem (Vox sibila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65200" indent="-565200">
              <a:spcBef>
                <a:spcPts val="7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yšetření ladičkam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65200" indent="-565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Weberova zkouš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65200" indent="-565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Rinneho zkouš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65200" indent="-565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chwabachova zkouš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ónová audiometri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Audiomet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Audi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Znač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ravé ucho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o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cs-CZ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Levé ucho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2800" spc="-1" strike="noStrike">
                <a:solidFill>
                  <a:srgbClr val="0000ff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zdušné veden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o</a:t>
            </a:r>
            <a:r>
              <a:rPr b="0" lang="cs-CZ" sz="2800" spc="-1" strike="noStrike">
                <a:solidFill>
                  <a:srgbClr val="ff0000"/>
                </a:solidFill>
                <a:latin typeface="Tahoma"/>
                <a:ea typeface="Tahoma"/>
              </a:rPr>
              <a:t>——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o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2800" spc="-1" strike="noStrike">
                <a:solidFill>
                  <a:srgbClr val="0000ff"/>
                </a:solidFill>
                <a:latin typeface="Tahoma"/>
              </a:rPr>
              <a:t>x</a:t>
            </a:r>
            <a:r>
              <a:rPr b="0" lang="cs-CZ" sz="2800" spc="-1" strike="noStrike">
                <a:solidFill>
                  <a:srgbClr val="0000ff"/>
                </a:solidFill>
                <a:latin typeface="Tahoma"/>
                <a:ea typeface="Tahoma"/>
              </a:rPr>
              <a:t>——</a:t>
            </a:r>
            <a:r>
              <a:rPr b="1" lang="cs-CZ" sz="2800" spc="-1" strike="noStrike">
                <a:solidFill>
                  <a:srgbClr val="0000ff"/>
                </a:solidFill>
                <a:latin typeface="Tahom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stní vedení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&lt;</a:t>
            </a:r>
            <a:r>
              <a:rPr b="0" lang="cs-CZ" sz="2800" spc="-1" strike="noStrike">
                <a:solidFill>
                  <a:srgbClr val="ff0000"/>
                </a:solidFill>
                <a:latin typeface="Tahoma"/>
              </a:rPr>
              <a:t>---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&lt; [</a:t>
            </a:r>
            <a:r>
              <a:rPr b="0" lang="cs-CZ" sz="2800" spc="-1" strike="noStrike">
                <a:solidFill>
                  <a:srgbClr val="ff0000"/>
                </a:solidFill>
                <a:latin typeface="Tahoma"/>
              </a:rPr>
              <a:t>---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gt;</a:t>
            </a:r>
            <a:r>
              <a:rPr b="0" lang="cs-CZ" sz="2800" spc="-1" strike="noStrike">
                <a:solidFill>
                  <a:srgbClr val="0000ff"/>
                </a:solidFill>
                <a:latin typeface="Tahoma"/>
              </a:rPr>
              <a:t>---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gt; ]</a:t>
            </a:r>
            <a:r>
              <a:rPr b="0" lang="cs-CZ" sz="2800" spc="-1" strike="noStrike">
                <a:solidFill>
                  <a:srgbClr val="0000ff"/>
                </a:solidFill>
                <a:latin typeface="Tahoma"/>
              </a:rPr>
              <a:t>---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ónová audiometri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řevodní poruch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řevodní" descr=""/>
          <p:cNvPicPr/>
          <p:nvPr/>
        </p:nvPicPr>
        <p:blipFill>
          <a:blip r:embed="rId1"/>
          <a:stretch/>
        </p:blipFill>
        <p:spPr>
          <a:xfrm>
            <a:off x="2362320" y="2549520"/>
            <a:ext cx="441936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ónová audiometri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cepční poruch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ercepční" descr=""/>
          <p:cNvPicPr/>
          <p:nvPr/>
        </p:nvPicPr>
        <p:blipFill>
          <a:blip r:embed="rId1"/>
          <a:stretch/>
        </p:blipFill>
        <p:spPr>
          <a:xfrm>
            <a:off x="2209680" y="2583000"/>
            <a:ext cx="4724640" cy="38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ónová audiometri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íšená poruch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smíšená" descr=""/>
          <p:cNvPicPr/>
          <p:nvPr/>
        </p:nvPicPr>
        <p:blipFill>
          <a:blip r:embed="rId1"/>
          <a:stretch/>
        </p:blipFill>
        <p:spPr>
          <a:xfrm>
            <a:off x="2209680" y="2592360"/>
            <a:ext cx="472464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lovní audiometri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3" name="slovní" descr=""/>
          <p:cNvPicPr/>
          <p:nvPr/>
        </p:nvPicPr>
        <p:blipFill>
          <a:blip r:embed="rId1"/>
          <a:stretch/>
        </p:blipFill>
        <p:spPr>
          <a:xfrm>
            <a:off x="685800" y="2709720"/>
            <a:ext cx="777240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ktivní zkoušky sluch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Impedanční audiometr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ympanometr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yšetření stapediálních reflex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Otoakustické 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(spontánní otoakustické emi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ktivní zkoušky sluch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yšetření evokovaných sluchových potenciál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E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13:59:29Z</dcterms:created>
  <dc:creator>Jiří Langer</dc:creator>
  <dc:description/>
  <dc:language>en-US</dc:language>
  <cp:lastModifiedBy>Jiří Langer</cp:lastModifiedBy>
  <dcterms:modified xsi:type="dcterms:W3CDTF">2004-10-07T09:24:15Z</dcterms:modified>
  <cp:revision>16</cp:revision>
  <dc:subject/>
  <dc:title>Diagnostika a metody vyšetření sluchu </dc:title>
</cp:coreProperties>
</file>