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0C4-2E90-460E-8809-A0BD2EF9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AD92-73EF-49A7-85D9-7131ED0B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529E-03B9-40B4-8EC4-50A2D854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2356-27F1-40FD-B435-05F5A6E5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74C1-5897-4A81-B177-AB7B1147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76E2-7C88-40B2-BC14-1613EFA2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9363-4CA7-476F-BBE4-4350036F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2AB9-FB93-4726-BAF8-8F48D4D9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2E43-B585-472C-A2EB-24B8D986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3A91-4203-4A4C-9FE6-75D86758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8C87-A339-49C8-ACD3-07B6E570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4001-E854-4FC5-BD8A-CA395FBD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3BC9-60CF-441B-94E5-AF41CFC9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D9EE-DFF5-46EA-AF29-C207B8C2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E3A1-5BFB-4841-B525-80CB686B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D861-59E5-45BE-A3E4-B6798F63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96C6-4019-41C7-A56D-537AFEF1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D2AB-1D04-4C01-AACF-5C47F5A8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36D5-1543-4727-A194-FA9443CF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207A-7139-4C14-A3F1-956731CE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3272-CDEE-4300-862F-114CD9EB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F33-FF3D-42CE-9FFE-69D99151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9AE3-BE57-4338-89A1-2DDB82B8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A8C5-9D0E-41D0-A0AC-F819440B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A8F5-7D73-4C1F-A5CC-CD20852A87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1884-B192-41C1-9242-7F2E88972A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4280" y="2895120"/>
            <a:ext cx="7792920" cy="17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ém péče o sluchově postižené, jejich výchova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zdělává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učasné trendy ve výchově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zdělávání S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otální komunik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otal communication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ystém vzešel od samotných neslyšících jako výsledek nespokojenosti s výsledky orálního přístupu (USA, 60. lét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ýběr komunikačních forem je přísně individuál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učasné trendy ve výchově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zdělávání S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ožky totální komunik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nakový jazy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luvená ře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dezírá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uchová výchova a reedukace sluch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učasné trendy ve výchově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zdělávání S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ožky totální komunik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stikulace, mimika, pantomi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stová abece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aná řeč, kresb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daktický materiá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učasné trendy ve výchově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zdělávání S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Bilingvální přístup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řenos informací ve 2 jazykových kóde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edirektivní metody výu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přednostňování znakového jazyka v raném vě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dpora psané formy národního jazy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učasné trendy ve výchově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zdělávání S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incipy bilingválního přístup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ůraz na plnohodnotnou komunikac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e výuce přítomni dva pedagogové (slyšící a neslyšící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ýklad nejprve ve znakovém jazy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ásledně představeno v psané form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Oba jazyky jsou představeny oddělen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zace sluchově postižený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nie neslyšících (ČUN, ČMJ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evn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ČS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Český klub ohluchlých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RP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or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SN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Časopisy a periodika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luchově postižený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nfo zpravoda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Go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n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ná péč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o 60. let 20. stol. Raná péče neexistova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kopníc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Manželé Ewingov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Anotonius van Uden, Armin Lö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John T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Jan Po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ná péč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třediska rané péče (Tam-Ta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PC pro sluchově postižen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acovníci SP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peciální pedagog (surdoped, logop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sychol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ociální pracovní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ná péč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Činnost SPC (raná péče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valitní diagnosti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sychorehabilitační pomoc rodin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ociální poradenstv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ýcvik dět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ná péč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ianty péče SP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bulant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by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chovně-vzdělávací péč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eřské šk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ákladní šk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řední školy, SOŠ, SOU, OU a 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ysoké školy (integrac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učasné trendy ve výchově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zdělávání S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Orální příst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otální komunik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Bilingvální příst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učasné trendy ve výchově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zdělávání S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ální přístup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lavním cílem je vybudování mluvené řeči v orální i grafické podobě s cílem začlenit sluchově postiženého do majoritní slyšící společn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připouští používání znakového jazy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učasné trendy ve výchově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zdělávání S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ální přístup je založen n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dezírá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edukaci sluch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ální logopedické péč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yužívání prstové abece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15:01:30Z</dcterms:created>
  <dc:creator>Jiří Langer</dc:creator>
  <dc:description/>
  <dc:language>en-US</dc:language>
  <cp:lastModifiedBy>Langer</cp:lastModifiedBy>
  <dcterms:modified xsi:type="dcterms:W3CDTF">2004-10-07T20:34:39Z</dcterms:modified>
  <cp:revision>9</cp:revision>
  <dc:subject/>
  <dc:title>Raná péče o děti se sluchovým postižením</dc:title>
</cp:coreProperties>
</file>